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E685-DD5A-4D1A-9010-B5C5B71BD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CC7C-9296-4B46-A6D1-6356262FF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C788-8C8C-48B9-BD6C-3E6CEC6DB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7A8B-853D-4607-81F6-1ADC8D844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5CFF-4CC6-48CF-9DA4-CBFEDB5BF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4F79-40AA-4520-B644-2DB170A69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7DA2C-990C-4545-9715-03C27171FD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5DE07-B2D0-4258-A35A-05C41E1A61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0A76D-FC6E-4E1C-A3A2-C4B2505250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6275B-ADB7-4033-91B7-86620BBB9A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BCF45-F639-441C-9CE9-321E9FF13F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66976-9CE7-493B-BFC9-72F978D391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D979D-646C-42A5-AB7D-BB67EDF514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72D71-F03C-49F9-AF4E-E11AB6BA35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F427A-D81E-4620-86AA-ACCEFA0521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1DFF5-764A-4FB4-85E9-5100B3A70D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956B2-5ABF-4FE7-9E22-3CFA44A8EE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E8BB5-9735-44DA-896B-ACBDFA693A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5A2E-8EA2-46B9-B6CF-6F8ED4E61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rameter Destruction Resurrection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SCI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al Podd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ember 20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Resurrection of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464840"/>
            <a:ext cx="868680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ever a parameter is destructed, all handles to that parameter are no longer valid and should not be us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rameter can be resurrected by the owner module and can be initialized to a new valu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makes the parameter handle valid again and usage can resu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monstrates that a parameter can be resurrected from the owner module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32080" y="2163600"/>
            <a:ext cx="15825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444960" y="1776240"/>
            <a:ext cx="13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CTO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443160" y="36482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19040" y="4815000"/>
            <a:ext cx="1486440" cy="155160"/>
            <a:chOff x="3119040" y="4815000"/>
            <a:chExt cx="1486440" cy="155160"/>
          </a:xfrm>
        </p:grpSpPr>
        <p:sp>
          <p:nvSpPr>
            <p:cNvPr id="100" name="Rectangle 32"/>
            <p:cNvSpPr/>
            <p:nvPr/>
          </p:nvSpPr>
          <p:spPr>
            <a:xfrm>
              <a:off x="3140280" y="48150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19040" y="49665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27040" y="3741840"/>
            <a:ext cx="15573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2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443160" y="43610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3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Folded Corner 41"/>
          <p:cNvSpPr/>
          <p:nvPr/>
        </p:nvSpPr>
        <p:spPr>
          <a:xfrm>
            <a:off x="3157560" y="1776240"/>
            <a:ext cx="2722680" cy="2970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*int_param_ptr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Folded Corner 42"/>
          <p:cNvSpPr/>
          <p:nvPr/>
        </p:nvSpPr>
        <p:spPr>
          <a:xfrm>
            <a:off x="3205080" y="4452840"/>
            <a:ext cx="1629000" cy="282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int_param_ptr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27"/>
          <p:cNvSpPr/>
          <p:nvPr/>
        </p:nvSpPr>
        <p:spPr>
          <a:xfrm>
            <a:off x="443520" y="27446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1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Folded Corner 42"/>
          <p:cNvSpPr/>
          <p:nvPr/>
        </p:nvSpPr>
        <p:spPr>
          <a:xfrm>
            <a:off x="3230640" y="3581280"/>
            <a:ext cx="336708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_handle.set_cci_value(cci_value(2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Folded Corner 26"/>
          <p:cNvSpPr/>
          <p:nvPr/>
        </p:nvSpPr>
        <p:spPr>
          <a:xfrm>
            <a:off x="1432080" y="3087720"/>
            <a:ext cx="15825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1" name="Straight Arrow Connector 39"/>
          <p:cNvCxnSpPr/>
          <p:nvPr/>
        </p:nvCxnSpPr>
        <p:spPr>
          <a:xfrm flipH="1" flipV="1">
            <a:off x="3118680" y="3978000"/>
            <a:ext cx="3313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Folded Corner 42"/>
          <p:cNvSpPr/>
          <p:nvPr/>
        </p:nvSpPr>
        <p:spPr>
          <a:xfrm>
            <a:off x="3230640" y="2665440"/>
            <a:ext cx="160344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int_param_ptr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" name="Group 35"/>
          <p:cNvGrpSpPr/>
          <p:nvPr/>
        </p:nvGrpSpPr>
        <p:grpSpPr>
          <a:xfrm>
            <a:off x="3119040" y="3079800"/>
            <a:ext cx="1486440" cy="155160"/>
            <a:chOff x="3119040" y="3079800"/>
            <a:chExt cx="1486440" cy="155160"/>
          </a:xfrm>
        </p:grpSpPr>
        <p:sp>
          <p:nvSpPr>
            <p:cNvPr id="114" name="Rectangle 32"/>
            <p:cNvSpPr/>
            <p:nvPr/>
          </p:nvSpPr>
          <p:spPr>
            <a:xfrm>
              <a:off x="3140280" y="30798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5" name="Straight Arrow Connector 34"/>
            <p:cNvCxnSpPr/>
            <p:nvPr/>
          </p:nvCxnSpPr>
          <p:spPr>
            <a:xfrm flipH="1" flipV="1">
              <a:off x="3119040" y="32313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" name="Straight Arrow Connector 16"/>
          <p:cNvCxnSpPr>
            <a:stCxn id="117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0" name="Straight Arrow Connector 17"/>
          <p:cNvCxnSpPr>
            <a:stCxn id="118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" name="TextBox 27"/>
          <p:cNvSpPr/>
          <p:nvPr/>
        </p:nvSpPr>
        <p:spPr>
          <a:xfrm>
            <a:off x="443520" y="17762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5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28"/>
          <p:cNvSpPr/>
          <p:nvPr/>
        </p:nvSpPr>
        <p:spPr>
          <a:xfrm>
            <a:off x="443160" y="36590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9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Folded Corner 42"/>
          <p:cNvSpPr/>
          <p:nvPr/>
        </p:nvSpPr>
        <p:spPr>
          <a:xfrm>
            <a:off x="3287880" y="3716280"/>
            <a:ext cx="1457280" cy="2844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new value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27"/>
          <p:cNvSpPr/>
          <p:nvPr/>
        </p:nvSpPr>
        <p:spPr>
          <a:xfrm>
            <a:off x="443520" y="27446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6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Folded Corner 42"/>
          <p:cNvSpPr/>
          <p:nvPr/>
        </p:nvSpPr>
        <p:spPr>
          <a:xfrm>
            <a:off x="5259240" y="1859040"/>
            <a:ext cx="2627640" cy="4554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rm that the parameter handle of sim_ip.int_param is now inval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Folded Corner 26"/>
          <p:cNvSpPr/>
          <p:nvPr/>
        </p:nvSpPr>
        <p:spPr>
          <a:xfrm>
            <a:off x="1332000" y="3087720"/>
            <a:ext cx="16826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-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Folded Corner 42"/>
          <p:cNvSpPr/>
          <p:nvPr/>
        </p:nvSpPr>
        <p:spPr>
          <a:xfrm>
            <a:off x="3230640" y="2587680"/>
            <a:ext cx="2452680" cy="4334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_ptr = new cci_param&lt;int&gt;("int_param", -10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0" name="Group 35"/>
          <p:cNvGrpSpPr/>
          <p:nvPr/>
        </p:nvGrpSpPr>
        <p:grpSpPr>
          <a:xfrm>
            <a:off x="3119040" y="3079800"/>
            <a:ext cx="1486440" cy="155160"/>
            <a:chOff x="3119040" y="3079800"/>
            <a:chExt cx="1486440" cy="155160"/>
          </a:xfrm>
        </p:grpSpPr>
        <p:sp>
          <p:nvSpPr>
            <p:cNvPr id="131" name="Rectangle 32"/>
            <p:cNvSpPr/>
            <p:nvPr/>
          </p:nvSpPr>
          <p:spPr>
            <a:xfrm>
              <a:off x="3140280" y="30798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32" name="Straight Arrow Connector 34"/>
            <p:cNvCxnSpPr/>
            <p:nvPr/>
          </p:nvCxnSpPr>
          <p:spPr>
            <a:xfrm flipH="1" flipV="1">
              <a:off x="3119040" y="32313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33" name="Folded Corner 42"/>
          <p:cNvSpPr/>
          <p:nvPr/>
        </p:nvSpPr>
        <p:spPr>
          <a:xfrm>
            <a:off x="5259240" y="3413160"/>
            <a:ext cx="2562480" cy="6062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up the sim_ip.int_param handle again and confirm its validity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Straight Arrow Connector 39"/>
          <p:cNvCxnSpPr/>
          <p:nvPr/>
        </p:nvCxnSpPr>
        <p:spPr>
          <a:xfrm flipH="1" flipV="1">
            <a:off x="3118680" y="4071600"/>
            <a:ext cx="3313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5" name="Folded Corner 26"/>
          <p:cNvSpPr/>
          <p:nvPr/>
        </p:nvSpPr>
        <p:spPr>
          <a:xfrm>
            <a:off x="1332000" y="3728880"/>
            <a:ext cx="1657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-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21_Param_Destruction_Resurrection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Ctor: Default value of sim_ip.int_param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Set value of int_param to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Current value of int_param is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Set value of sim_ip.int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@30 ns, execute: Destroy sim_ip.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50 ns, execute: [EXTERNAL] Parameter handle of sim_ip.int_param is no more vali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@60 ns, execute: Resurrect sim_ip.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90 ns, execute: [EXTERNAL] Parameter handle of sim_ip.int_param is valid agai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90 ns, execute: [EXTERNAL] Current value of sim_ip.int_param is 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Dtor: Current value of sim_ip.int_param is 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15:47:40Z</dcterms:modified>
  <cp:revision>170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47:40Z</vt:lpwstr>
  </property>
  <property fmtid="{D5CDD505-2E9C-101B-9397-08002B2CF9AE}" pid="5" name="TitusGUID">
    <vt:lpwstr>ea6cc5ed-1c1b-4aa0-91f1-9c2633a3b32b</vt:lpwstr>
  </property>
</Properties>
</file>