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B5E96-3CA1-46CB-9FB8-8F95867C3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B85C5-269A-4E1E-A156-37C07390D6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57A10-4FC5-4128-8763-B19CF7324D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26D4A-B503-48BF-BA21-41AC1C3CFF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BD70A-3266-4653-BF82-D3C821266F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538ED-47C8-45C4-9575-1F652FAC49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C85ED-44B5-49F8-A900-966B463AA8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F24EE-FF10-47BC-9D8D-021947A368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63CD7-CBD4-4154-A949-14DB11897E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58170A-A758-4C2A-9CD8-84F2AE4BA6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3B51C-97CF-4723-8B5E-66B6D5882F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60C90-01C0-4EA1-B2A8-C939E8A75D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B4049-8D26-43BC-8ECD-F0BCE170E9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20B05-2493-41D9-BBDC-078686EF96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9F18B-155C-4E59-B013-AD491B08F2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1BE68-36CA-4340-8794-3A4F7CEC7D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D7BA9-540A-4852-A2EA-88B101FA7D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4C998-F084-41BF-8BC6-F26E06EFDB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DEBAC-DA62-4B82-8825-1BEB50C504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24D52-AA07-4AA9-BF14-CC9238B7CA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EF188-8381-41FC-9A3C-79651F1A68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4EC09-7171-4D40-8FBC-75B9A6A8F4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2B2DC-8B59-4372-80CA-EB4E018324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E56BF-6D03-4B0E-A876-FC2E75BF441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E08A3-C6D0-45D6-B098-4976A6CA3C8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FCA65-3598-40E6-A469-2B79478B91F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925E6-D175-435B-A0DA-C489C0E5012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9A248-1D16-4D5D-9B97-6AFE066403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69CE3-61E1-43B6-8DAD-1D2A0804E25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B3F2E-CABF-4FB1-8CD4-6E8B06B2506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6D9EF-4359-4CFF-92CC-2081709AA65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88A70-19F2-47DB-B202-A046A67BE22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02309-3E18-4D64-BF9A-7A9A7D95D0B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9C9A0-C7BF-4E8E-ACBD-A30B80EF83A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FD060-2892-4C1D-9C97-1730005BCDA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05E81-B352-41E3-A466-62E2C9FC25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BC577-26F4-4318-B2D2-06C62E938F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476EF-29EB-4E16-AA42-3E7D0AE862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8A65B-9AD1-48EF-A420-E979EC2EB9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0F5F0-C14B-420C-983F-2640D97F5B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8B0CC-F31B-4C4D-937A-3AA0E5A798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C5381-B0D6-450B-AA76-A5314AD9B3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0A27D-83B5-4555-B0B2-778BF9FDDE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0641E907-57E9-4D4D-B570-8152377EED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uperset Parameter Value Specific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perset Parameter Value Specific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tecting Unconsumed Parameters (R3.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ing in a mod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traight Connector 28"/>
          <p:cNvSpPr/>
          <p:nvPr/>
        </p:nvSpPr>
        <p:spPr>
          <a:xfrm flipH="1">
            <a:off x="2284560" y="4572000"/>
            <a:ext cx="144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angle 33"/>
          <p:cNvSpPr/>
          <p:nvPr/>
        </p:nvSpPr>
        <p:spPr>
          <a:xfrm>
            <a:off x="762120" y="4038480"/>
            <a:ext cx="24382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34"/>
          <p:cNvSpPr/>
          <p:nvPr/>
        </p:nvSpPr>
        <p:spPr>
          <a:xfrm>
            <a:off x="6095880" y="4114800"/>
            <a:ext cx="2667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configurato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7"/>
          <p:cNvSpPr/>
          <p:nvPr/>
        </p:nvSpPr>
        <p:spPr>
          <a:xfrm>
            <a:off x="457200" y="68580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.cpp (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estbench fi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38"/>
          <p:cNvSpPr/>
          <p:nvPr/>
        </p:nvSpPr>
        <p:spPr>
          <a:xfrm>
            <a:off x="533520" y="990720"/>
            <a:ext cx="8001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configuration file approach for assigning preset values to the cci-parameters.  (For further details, see ex17_Specifying_Parameter_Values_via_a_Configuration_File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ectangle 40"/>
          <p:cNvSpPr/>
          <p:nvPr/>
        </p:nvSpPr>
        <p:spPr>
          <a:xfrm>
            <a:off x="2286000" y="2666880"/>
            <a:ext cx="4800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iate the two modules 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WN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A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ul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9" name="Straight Arrow Connector 43"/>
          <p:cNvCxnSpPr>
            <a:stCxn id="188" idx="2"/>
            <a:endCxn id="184" idx="0"/>
          </p:cNvCxnSpPr>
          <p:nvPr/>
        </p:nvCxnSpPr>
        <p:spPr>
          <a:xfrm flipH="1">
            <a:off x="1980360" y="3352320"/>
            <a:ext cx="27061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0" name="Straight Arrow Connector 45"/>
          <p:cNvCxnSpPr>
            <a:stCxn id="188" idx="2"/>
            <a:endCxn id="185" idx="0"/>
          </p:cNvCxnSpPr>
          <p:nvPr/>
        </p:nvCxnSpPr>
        <p:spPr>
          <a:xfrm>
            <a:off x="4686480" y="3352320"/>
            <a:ext cx="27439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1" name="Rectangle 46"/>
          <p:cNvSpPr/>
          <p:nvPr/>
        </p:nvSpPr>
        <p:spPr>
          <a:xfrm>
            <a:off x="152280" y="4800600"/>
            <a:ext cx="4267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iate the cci_parameters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Nam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_param_1;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Valu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Nam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_param_2;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Valu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2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Rectangle 47"/>
          <p:cNvSpPr/>
          <p:nvPr/>
        </p:nvSpPr>
        <p:spPr>
          <a:xfrm>
            <a:off x="6113520" y="4992840"/>
            <a:ext cx="2666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handle for broker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_broker(cci::cci_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Straight Connector 28"/>
          <p:cNvSpPr/>
          <p:nvPr/>
        </p:nvSpPr>
        <p:spPr>
          <a:xfrm flipH="1">
            <a:off x="7237440" y="4572000"/>
            <a:ext cx="144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5"/>
          <p:cNvSpPr/>
          <p:nvPr/>
        </p:nvSpPr>
        <p:spPr>
          <a:xfrm>
            <a:off x="6095880" y="1600200"/>
            <a:ext cx="2819520" cy="1143000"/>
          </a:xfrm>
          <a:prstGeom prst="flowChartDocumen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6629400" y="2666880"/>
            <a:ext cx="163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figuration_Fi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Rectangle 19"/>
          <p:cNvSpPr/>
          <p:nvPr/>
        </p:nvSpPr>
        <p:spPr>
          <a:xfrm>
            <a:off x="590400" y="1827720"/>
            <a:ext cx="451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ci::cnf::cci_configFile_Tool configTool("configFileTool");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figTool.config("Configuration_File.txt")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33"/>
          <p:cNvSpPr/>
          <p:nvPr/>
        </p:nvSpPr>
        <p:spPr>
          <a:xfrm>
            <a:off x="304920" y="914400"/>
            <a:ext cx="24382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configurato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47"/>
          <p:cNvSpPr/>
          <p:nvPr/>
        </p:nvSpPr>
        <p:spPr>
          <a:xfrm>
            <a:off x="4038480" y="2882880"/>
            <a:ext cx="4800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 list of unconsumed preset values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onsumed_parameter_list = m_broker.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_unconsumed_preset_value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2438280" y="2577960"/>
            <a:ext cx="1905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EOE phas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3200400" y="43434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0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Rectangle 17"/>
          <p:cNvSpPr/>
          <p:nvPr/>
        </p:nvSpPr>
        <p:spPr>
          <a:xfrm>
            <a:off x="4038480" y="4572000"/>
            <a:ext cx="4267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 the list of parameter names for which there are unconsumed preset values: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_owner.int_param_3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_owner.int_param_4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Straight Connector 28"/>
          <p:cNvSpPr/>
          <p:nvPr/>
        </p:nvSpPr>
        <p:spPr>
          <a:xfrm flipH="1">
            <a:off x="1523520" y="1676520"/>
            <a:ext cx="180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4038480" y="1447920"/>
            <a:ext cx="51055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_param_handles(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trieve list of all cci-parameters within model.  Store result in a std::vect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_parameter_list =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_broker.get_param_handles(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8_Superset_Parameter_Value_Specification.log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0880" y="1514160"/>
            <a:ext cx="86868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1' to '1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2' to '2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3' to '3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4' to '400‘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List of all parameters in the mod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Parameter Name : param_owner.int_param_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Parameter Name : param_owner.int_param_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List of parameter names with unconsumed preset valu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Unconsumed Parameter Name : param_owner.int_param_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Unconsumed Parameter Name : param_owner.int_param_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5:40:57Z</dcterms:modified>
  <cp:revision>20</cp:revision>
  <dc:subject/>
  <dc:title>ex18_Superset_Parameter_Value_Specifi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40:57Z</vt:lpwstr>
  </property>
  <property fmtid="{D5CDD505-2E9C-101B-9397-08002B2CF9AE}" pid="5" name="TitusGUID">
    <vt:lpwstr>407613b7-d1ea-43f3-af1c-aef363dad956</vt:lpwstr>
  </property>
</Properties>
</file>